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11C2-14E7-41E9-814A-806BA5FA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EAAC-EA70-43C7-98A8-C53B3248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BF23-9DC7-4F1D-8424-97277A405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5925-F6EF-426E-B541-E268387BC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F5E2-0013-4239-972F-56CC0D8D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0BD7-4368-43DC-AA46-298FAB8C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5777-524A-49FE-BFC5-ADC51F60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B58F-90EE-4A27-9999-D0DD4B08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4774-5AAB-424A-83BE-B0C42A1F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2F73-E7D7-4BFA-9088-8D7BF413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436B-650A-4E49-B5F0-24240E2B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A9CE-B509-4381-B6A3-A315AFE4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6C68-07F8-4A6E-9A54-0AE38C8B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3F0A-94C1-4369-AEFE-F14A09D5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03D5-0C84-403B-961C-557A4573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18C3-2702-4371-8FF8-B66816DCC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436D-BCC9-46BF-AEB7-8EAB2F67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4C76-25B3-4904-8E69-A24D19D3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8FBC-A697-411F-BF86-83E0C5B8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5E21-67C4-4F6F-8A7D-4D10B00E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D595-EB42-4C0F-AA86-5358AEBE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EB8E-48B4-42EE-AA13-0732DD98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D4FD-2A93-48C8-9BEF-5C500B1A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1A75-EFA0-402A-8EA4-6CF74886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A2B9-C10B-4D26-9EC7-029BDD82CC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5615-EDD9-4100-ACE2-B0A2E14014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b7e7ff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b7e7ff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b7e7ff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120400" y="3909960"/>
            <a:ext cx="6642360" cy="17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Manualul de </a:t>
            </a:r>
            <a:r>
              <a:rPr b="0" i="1" lang="en-GB" sz="1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i="1" lang="ro-RO" sz="1000" spc="-1" strike="noStrike">
                <a:solidFill>
                  <a:srgbClr val="ffffff"/>
                </a:solidFill>
                <a:latin typeface="Arial"/>
              </a:rPr>
              <a:t>sihologie, clasa a X-a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, Elena Lupşa, Victor Bratu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b7e7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b7e7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b7e7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b7e7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b7e7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b7e7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Gândirea este nivelul cel mai înalt de prelucrare şi integrare a informaţiei despre lumea externă şi despre noi înşine. Prin ea se realizează saltul calitativ al activităţii de cunoaştere de 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Gândirea este procesul psihic de reflectare mijlocită şi generalizat-abstractă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12" descr="comp_i"/>
          <p:cNvPicPr/>
          <p:nvPr/>
        </p:nvPicPr>
        <p:blipFill>
          <a:blip r:embed="rId2"/>
          <a:stretch/>
        </p:blipFill>
        <p:spPr>
          <a:xfrm>
            <a:off x="5205240" y="2197080"/>
            <a:ext cx="130320" cy="12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b7e7ff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b7e7ff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b7e7ff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s8b2</cp:lastModifiedBy>
  <dcterms:modified xsi:type="dcterms:W3CDTF">2012-06-19T11:15:17Z</dcterms:modified>
  <cp:revision>23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